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ACB5-E653-451F-BD15-8D95739E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FA7B-1430-4BA1-A8E4-696C758C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8758-592C-4664-9B22-36526C5A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C26D-96C5-4976-8888-333E7B6D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7DD-7E34-48B0-AD93-27B1E142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3390-B502-424C-AA22-D0CE0B353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3C4-74CD-4C61-B897-CE3C2AA1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5FC1-02B9-4D18-A3BA-4D20CD01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6F62-25AC-4E94-B973-EC7B7F19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98E-A1A8-4204-8941-FD946310D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2AE8-55B0-4975-ACD8-1357141C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91A3-5BEB-4BE2-88F1-2F58176D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9EE-EEA5-4440-AD06-73F2FB30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795-7B9E-4B09-99B5-E179F0D5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F3FE-D660-4979-B11B-87547959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2FB-8C6F-480B-B911-CDF4E17B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B3E7-595A-4966-AFF5-B6071528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1FEC-F946-4815-8FC2-B6825D5A3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09F7-318A-470C-873D-DCBB32A1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566-CD75-4F0C-A291-917221EF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4BC3-9802-40A1-BE23-D23B08BA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4DB3-A8C1-49DD-B7CD-7B452C6FC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A942-8B0E-473C-A0E0-FA7436F8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EB25-4DE5-4CB4-9C7C-2BE1D65F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8BA-69CB-4686-AD28-C76A1256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A855-1559-4991-B9D4-81237846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D2C8-C689-4B40-BD4C-BC05F454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82B0-6B83-4856-8211-74E11491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EDC-B83B-4A39-99B3-A7D9C94B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92C5-06FC-42DB-8990-D88E63D8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BAA1-D57C-4D07-B30F-44AD4958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91F-3A12-44A7-9788-528C51762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0551-CD9F-45F7-8A3B-1F2C61A64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1B44-B485-4169-9E61-C9B0E7338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7DD2-E495-484F-A7E3-720D61841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0DC9-5CCB-4510-A18E-44BA1A393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D58-E566-4F31-BA59-ABF383C3B3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70A-DB31-4324-BA9B-6005D876D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206-0FDB-4801-92F3-E180CC2B8E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EE4-E62C-4A5A-A223-087959B60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A4B-0198-4F6C-BB7A-F3808F9A2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67C-1F15-42F0-BC17-432F6CE71B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2FC-11A4-4080-9958-973CB9830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3035-D19B-498C-9AF2-16AAB642C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D16-C918-4194-B55C-7084A71FD4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3C1-35D9-4A17-8A93-E5C32664A8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F90-01D9-4280-82F4-74FE78CEB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074-1669-451D-87F7-86FAEAD098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F9E-9A13-4199-A118-2BA0F4EC0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09A37-AF51-4971-8E4F-4573628EE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A6C4-8262-4C13-A10E-30AA65160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A3A1-E03C-43ED-8D54-BFDB59DAE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0C5D-1D79-44B0-97D9-13EB8710A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F4D7-D0ED-4E00-912D-96A63CBFE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3CE9-561F-4DED-A6CD-1FDA9ACBF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5BAE-2BA8-415E-81CE-3ADE6F527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D54-5093-4D82-B0EC-85EFBF9B57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5949-1FE7-4DC4-B5CF-D02C45BB07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43E8-A217-4E62-82A4-30188EB4D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Contrôle de qualité des 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DF6-819F-45A8-BB18-B6AF7666BE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’une colonie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8B29-CA26-479C-A3C8-1CCB5C4BB4F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9C92-BAF0-47CF-A1F3-5491D4377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cFarland 0.5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juster la suspension bactér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6CB5-5B5B-43B7-8FD9-765B13E2680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F7F9-A5B1-4079-B400-96E4D46E4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C98-0714-4701-930B-C2C998A5575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er des distributeurs de disqu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es, rap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gmentent la reproduct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is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minuent les capacités personnelles de ju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CCC4-EBCD-469A-987F-FE3641C827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63C4-69E4-4F6B-8C18-426212ED07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ZoneTexte 7"/>
          <p:cNvSpPr/>
          <p:nvPr/>
        </p:nvSpPr>
        <p:spPr>
          <a:xfrm>
            <a:off x="685800" y="53341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5105520" y="5334120"/>
            <a:ext cx="36576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Inoculum trop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C82-A26E-47E7-97E8-769E1C34D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avec l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1" name="Picture 5" descr="Disk moved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981320"/>
          </a:xfrm>
          <a:prstGeom prst="rect">
            <a:avLst/>
          </a:prstGeom>
          <a:ln w="0">
            <a:noFill/>
          </a:ln>
        </p:spPr>
      </p:pic>
      <p:sp>
        <p:nvSpPr>
          <p:cNvPr id="202" name="ZoneTexte 5"/>
          <p:cNvSpPr/>
          <p:nvPr/>
        </p:nvSpPr>
        <p:spPr>
          <a:xfrm>
            <a:off x="685800" y="5373720"/>
            <a:ext cx="30481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sques correctement alignés et espac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638680" y="5400720"/>
            <a:ext cx="3048120" cy="119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Zones non régulière car le disque n’a pas été appliqué correc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3245-41E7-417D-A72A-8558F72FF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4825-E0F2-4625-89DD-A6A1A31E3FA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9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522480" y="4038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è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80900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ied à coul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04920" y="4572000"/>
            <a:ext cx="8458200" cy="1905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cture avec une lumière suffisante et à l’arrière 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boî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zone lue est spécifique à un médica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loupe peut a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millimètres comp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DAB5-6EA5-42F0-A349-D3861687A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test – méthode par gradient de concent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79D6-258A-4983-B9BE-551C17D4BCE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1100-8D93-4AB7-930E-D1DDA247C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ésultats peuvent être incorrects si 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organisme n’a pas été bien identif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rreur de transcri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x inapproprié d’antibiot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testé du patient n’était pas le b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nalyse demandée n’était pas la bo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échantillon n’a pas été conservé correct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CE64-D9AD-4BDD-8CCF-F4DC2C671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C8C-C06C-49FC-8B9D-12BF1DA18AA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5640" y="456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sts de sensibilité antimicrobien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6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1"/>
          <p:cNvSpPr/>
          <p:nvPr/>
        </p:nvSpPr>
        <p:spPr>
          <a:xfrm>
            <a:off x="174240" y="4114800"/>
            <a:ext cx="70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ssent des infor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our sélectionner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tibiothérapie appropr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1DB0-C8CB-4DE6-8AC3-AE5C1934A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interpré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éthode des disq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urnit des résultats qualitatifs interprétables : sensibles, intermédiaires et résista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crodilution et diffusion en aga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fournissent un résultat quantitatif, une concentration minimum inhibitr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80EC-C6EC-412B-8F1D-E7801ECEC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6"/>
          <p:cNvSpPr/>
          <p:nvPr/>
        </p:nvSpPr>
        <p:spPr>
          <a:xfrm>
            <a:off x="5029200" y="1752480"/>
            <a:ext cx="388620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tests de sensibilité déterminent si la bactérie peut être inhibée par un antibiot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 susceptibilité est basée sur la concentration requise pour réduire la pousse sous le niveau visible (voir CI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8"/>
          <p:cNvSpPr/>
          <p:nvPr/>
        </p:nvSpPr>
        <p:spPr>
          <a:xfrm>
            <a:off x="2362320" y="289080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Concent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Inhibit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inim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9"/>
          <p:cNvSpPr/>
          <p:nvPr/>
        </p:nvSpPr>
        <p:spPr>
          <a:xfrm>
            <a:off x="380880" y="2666880"/>
            <a:ext cx="190512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ubes avec milieu de culture, bactéries, et des quantité croissante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5791320" y="3657600"/>
            <a:ext cx="2057400" cy="215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ensi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bactérie est dite sensible à un antibiotique si la pousse est inhibée par une concentration qui est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FACILEMENT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et en toute </a:t>
            </a:r>
            <a:r>
              <a:rPr b="0" lang="fr-FR" sz="900" spc="-1" strike="noStrike">
                <a:solidFill>
                  <a:srgbClr val="ff6600"/>
                </a:solidFill>
                <a:latin typeface="Verdana"/>
              </a:rPr>
              <a:t>SECURITE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obtenue dans la circulation sanguine du pati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Une réponse clinique positive pour le patient est anticipé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Résist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L’opposé de sensibl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11"/>
          <p:cNvSpPr/>
          <p:nvPr/>
        </p:nvSpPr>
        <p:spPr>
          <a:xfrm>
            <a:off x="685800" y="3429000"/>
            <a:ext cx="12952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Boîte d’agar avec un tapis de pousse bactérien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12"/>
          <p:cNvSpPr/>
          <p:nvPr/>
        </p:nvSpPr>
        <p:spPr>
          <a:xfrm>
            <a:off x="2514600" y="4648320"/>
            <a:ext cx="106668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Zone d’inhibition de la pousse bactéri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13"/>
          <p:cNvSpPr/>
          <p:nvPr/>
        </p:nvSpPr>
        <p:spPr>
          <a:xfrm>
            <a:off x="1600200" y="5024520"/>
            <a:ext cx="914400" cy="58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Disque imprégné d’antibiot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4"/>
          <p:cNvSpPr/>
          <p:nvPr/>
        </p:nvSpPr>
        <p:spPr>
          <a:xfrm>
            <a:off x="2743200" y="5562720"/>
            <a:ext cx="53352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15"/>
          <p:cNvSpPr/>
          <p:nvPr/>
        </p:nvSpPr>
        <p:spPr>
          <a:xfrm rot="5400000">
            <a:off x="3169800" y="3823920"/>
            <a:ext cx="914400" cy="27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Taille de la zo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16"/>
          <p:cNvSpPr/>
          <p:nvPr/>
        </p:nvSpPr>
        <p:spPr>
          <a:xfrm>
            <a:off x="4191120" y="4540320"/>
            <a:ext cx="457200" cy="18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CI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17"/>
          <p:cNvSpPr/>
          <p:nvPr/>
        </p:nvSpPr>
        <p:spPr>
          <a:xfrm>
            <a:off x="4267080" y="3581280"/>
            <a:ext cx="13716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En mesurant la taille de la zone, on peut calculer la CI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Verdana"/>
              </a:rPr>
              <a:t>Plus la zone est petite, plus la CIM est élevé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18"/>
          <p:cNvSpPr/>
          <p:nvPr/>
        </p:nvSpPr>
        <p:spPr>
          <a:xfrm>
            <a:off x="3276720" y="2666880"/>
            <a:ext cx="152388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lution de milieu de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19"/>
          <p:cNvSpPr/>
          <p:nvPr/>
        </p:nvSpPr>
        <p:spPr>
          <a:xfrm>
            <a:off x="3809880" y="5486400"/>
            <a:ext cx="1524240" cy="33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Diffusion de dis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Verdana"/>
              </a:rPr>
              <a:t>Test de susceptibi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DD5A-60FD-4E77-B8D8-FAE415823C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2855-2DCD-404D-8F4A-E6FE9C96D1D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304920" y="1295280"/>
            <a:ext cx="807696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linical and Laboratory Standards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ciété française de microbi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8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0" name="Text Box 8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fé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ECBF-A93B-488C-A49A-27AB3A7A4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Exemple d’un extrait de référence :</a:t>
            </a:r>
            <a:br>
              <a:rPr sz="28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élection du médicament à tes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BFA-C268-446F-AAC3-7B8E2E5A97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BD5-D47B-4E27-BC4C-85CE97C72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E6B-68D8-4A48-8541-C2438E8D8B2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d des erreurs surviennent dans le test de susceptibilit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li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tibiotiqu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quipement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terpré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B8DF-D1F0-467B-9043-D3161C5D1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FE1F-69BC-4C97-9274-2B643A119FA1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 des dis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lieu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     Mueller Hint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4 mm épaisseu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tibiotique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fr-FR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 mi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ubateur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mpératur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fr-FR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C test de susceptibilité antimicrobienne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838-C73B-4C6F-B78A-5918DD5B9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3BFA-F29B-461E-8685-4FCA3B6148F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uches de coll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5800" y="388620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souches de CQ doivent provenir d‘organisations réputé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souches spécifiques pour tester différentes combinaisons de médic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0:58Z</dcterms:created>
  <dc:creator>Robin Barteluk</dc:creator>
  <dc:description/>
  <dc:language>en-US</dc:language>
  <cp:lastModifiedBy>dolmazonv</cp:lastModifiedBy>
  <dcterms:modified xsi:type="dcterms:W3CDTF">2010-04-08T14:40:14Z</dcterms:modified>
  <cp:revision>17</cp:revision>
  <dc:subject/>
  <dc:title>Microbiology QC</dc:title>
</cp:coreProperties>
</file>